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FB7-2DE8-4C55-967A-ACE99FE5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5FD-87C6-4154-A192-37384809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8B7-CF31-4945-B8BA-4D643DAD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5CA-9696-47AF-B9DE-B499E65E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11D-093D-4ED9-97F7-AF1871CC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49A-590A-4895-AA80-963E3F41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9F1-E854-4DF3-B8EA-9B604B93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D40-F927-4E9D-BEB3-C9DE38F1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710-F959-456B-84FF-2C6DC31D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4B3-3C6E-4584-B5AD-0FD6369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A12-F3B2-48F8-8934-7EFA907B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551-35DF-433B-801C-4B9D71B4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4736-8E0E-48F1-867B-E207091E7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ravelblog.org/Photos/1789908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travelblog.org/Photos/1789908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travelblog.org/Photos/1789908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h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17220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70572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293840"/>
            <a:ext cx="65530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i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7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the secret lag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360" y="442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the secret lago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360" y="442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the secret lago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447920" y="1200240"/>
            <a:ext cx="647676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294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248160" cy="46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010640" cy="40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0292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5:53:14Z</dcterms:created>
  <dc:creator>netadmin8</dc:creator>
  <dc:description/>
  <dc:language>en-US</dc:language>
  <cp:lastModifiedBy>netadmin8</cp:lastModifiedBy>
  <dcterms:modified xsi:type="dcterms:W3CDTF">2012-10-05T18:25:59Z</dcterms:modified>
  <cp:revision>4</cp:revision>
  <dc:subject/>
  <dc:title>Isthmus</dc:title>
</cp:coreProperties>
</file>